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200F-2F28-4EF5-A4D9-696621D5D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vious cases, it is only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the rulers, not any of their particular qualities, that makes them superior forms of government; not so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6180-6AD4-4745-AD66-03FE6157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A38F-AE3B-43B8-BB7C-7DCBE6AD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D479-07B8-4FF1-861D-3CBD84EE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F98B-E3EE-413E-A879-F03A07B3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EDCB-08AB-4DF5-8C37-9681884E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5A36-776B-4620-8DF9-DA42327C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AAC9-52D5-401C-B8DF-ECF615F9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234C-1CC8-454C-B12F-F21AB8B4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DDA2-AB07-4B21-80B6-12DAE126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3822-1A69-4D36-BDB3-70879813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6F25-415C-4F55-9899-27626B04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B6F8-871F-4548-AEFD-B11656E0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F490-E452-424C-A76E-3187C7D1C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19920" y="609480"/>
            <a:ext cx="2714400" cy="3333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ill and Democ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2 Septem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uties of citizens in representative gover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itizen needs to be able and willing to use the vote for more than their private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need informed citizens who have an interest in the public good, i.e., who can think beyond their narrow self-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ever this does not happen, representative politics devolves into mere factionalism and ultimately into despot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are other forms of government bet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people are too independent and insubordinate (early stage of civil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itary despo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people are too passive and oppressed (later stage of civil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ist mon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are other forms of government bet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people’s moral horizons are too narrow and parochial (early stages of civil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ist, centralizing mon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re is no coherent people (early stages of civil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ist, centralizing mon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are other forms of government bet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people has a generally low level of culture, is greatly ignorant, or has a “defective” national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by foreigners or through the happy accident of a monarch of gen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ome part of the population is much better than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archy with some representative but weak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purpose of politi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al 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eval Christian 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avel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b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ss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l and lib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hould be free to choose whenever one’s choices do not directly harm others: liberty is primarily the ability to cho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erty as choice (Mill, Hobbes) is different from liberty as independence (Roussea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 suggests that the point of politics is (ultimately) to maximize lib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best form of government or political reg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to and Aristo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ss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best form of government or political reg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’s arguments emphasize the instrumental and moral benefits of participation in poli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st form of government helps everyo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t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ir interests by giving them some power to stand up for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lso help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pro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veryone’s character, giving them more other-regarding conc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best form of gover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st form of government is representative: it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m of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2509920"/>
            <a:ext cx="40384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our form of government good for every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good for Fij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good for Burma/Myanm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good for Chi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conditions for representative government to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ultural conditions might be necessary for representative government to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some conditions, representative government is im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some conditions, some other form of government is better, even if representative government i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is representative government impossi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ngness of the people to have a representativ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s this an iss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ngness and ability of the people to do what is necessary for its pre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wise, the executive will necessarily encroach o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ngness and ability of the people to fulfill its du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8:12:13Z</dcterms:created>
  <dc:creator>Xavier Marquez</dc:creator>
  <dc:description/>
  <dc:language>en-US</dc:language>
  <cp:lastModifiedBy>Full Name</cp:lastModifiedBy>
  <dcterms:modified xsi:type="dcterms:W3CDTF">2008-09-11T22:00:43Z</dcterms:modified>
  <cp:revision>4</cp:revision>
  <dc:subject/>
  <dc:title>Mill and Democracy</dc:title>
</cp:coreProperties>
</file>